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7515-DEF7-43B2-97B8-A628773D3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mall Group - New Cabin Partner (e.g., find a ratio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Whole group -  Read Aloud – Math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056-5089-475F-A20A-1B77555A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8B0-48FC-461B-A7BE-98F2B868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A98-11DB-4133-B473-AAD108F5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DE1-9148-4BCC-B103-D3ED78C9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3F19-80F7-4287-884A-CF183F5E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9509-5D3F-4934-8915-C5C61AD2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7CBF-CCCA-4730-957E-5BB3CC69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7174-2114-49D7-986E-43E7551D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B01B-66B4-454A-8A83-889ED77B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D0E8-8C44-4C8B-A4AC-C9D713DB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739D-00AB-4123-A852-0D79A89B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6D7-6F87-4180-A1D0-DEAF56DE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67CD-1B88-4091-9F69-C5DA40AD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0727-BBA1-431D-B00A-B7812727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4AE6-1BFC-4E8C-946C-51AB02E6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7901-DF53-4C08-83E3-F52AF6CE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87A1-BDEC-4F7C-A6A2-C7BFED73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ADE-6AB2-490F-BA9F-83746E00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F9B-DFF3-457E-A836-7FE5F735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205-38FD-401C-B46E-A9B11DC7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1DC-6002-42DE-B2E9-91879491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6E5-E13C-4821-AAED-43DF8071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0E6-4ABF-41FB-A8C2-CC931385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985-1280-43EA-B1C5-D8EFC84E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5219-1F09-4BF3-B4AE-E934DB53325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F65F-4F6F-4C05-A0D9-3EE570560CC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www.harpercollinschildrens.com/harperchildrensImages/isbn/large/4/9780688092344.jpg&amp;imgrefurl=http://www.harpercollinschildrens.com/books/Doorbell-Rang-Pat-Hutchins/%3Fisbn13%3D9780688092344%26tctid%3D100&amp;usg=__NiKUHYbvf2Bu1o-rCGB28kKhxAM=&amp;h=648&amp;w=801&amp;sz=197&amp;hl=en&amp;start=5&amp;um=1&amp;itbs=1&amp;tbnid=mY45573W_fLhTM:&amp;tbnh=116&amp;tbnw=143&amp;prev=/images%3Fq%3Dthe%2Bdoorbell%2Brang%26um%3D1%26hl%3Den%26sa%3DX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Archery – Hitting the Targ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big ideas to filter expectations in order to create lesson goals and appropriate consolidation ques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efore/Part 1/Minds 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ok in your journal at this morning’s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assess the learning of your students from this morning’s consolidation problem? Use one idea per sticky n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your cabin partners (back of glyph c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your cabin group sort the notes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76176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efore/Part 1/Minds On …continue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ere did the Action problem connect with the Big Ide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hare with whol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have 100 Yugio cards a day for ten days. Or you can have 1 card doubled every day for 10 days.  What would you choo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uring/Part 2/Acti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512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The Doorbell Rang,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Hutchins, P.) – Part 1: Mi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4 post it notes and record each operation on a separat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 the story is read, hold up the operation card you connect with the situation in the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he problem:  How could I use each operation to determine the number of cookies each person would get if Grandma’s cookies (24) are combined with Ma’s cookies (12)? – Part 2: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Rectangl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628640"/>
            <a:ext cx="27306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fter/Part 3/Consolidati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y did the author not choose 19 as the number of cookies? – Part 3: Conso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, Pair, Write – Share with a partner at your table and record your thinking in your camp jour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3024000" cy="2452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5" name="Rectangle 2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024000" cy="22892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ment of Learn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505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t’s Talk:  How does problem posing help you to assess the learning of the big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ow do you see yourself using consolidation questions in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879640" cy="21794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tonnerj</cp:lastModifiedBy>
  <dcterms:modified xsi:type="dcterms:W3CDTF">2010-08-17T01:04:59Z</dcterms:modified>
  <cp:revision>151</cp:revision>
  <dc:subject/>
  <dc:title>Slide 1</dc:title>
</cp:coreProperties>
</file>